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301A-5A09-40B0-837D-0EED46DF9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8250-4E10-4733-B80E-D89B3B737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9564-1B5B-4589-89FB-A008722A8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B226-C099-4DBD-98B6-693EF5740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DD082-F675-4071-93F7-035AE2568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B6026-DBB1-4E8E-A97F-681A083A4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5DD2F-D294-497B-9F45-A430E2516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41904-32EA-4050-A9ED-20A21B3F5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02EDC-208C-45BB-BB76-0D7D2AC60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87D68-7932-46BE-AAD8-2A17433E8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65C59-AF4E-45D2-A9D9-9A86CE53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4A35-4E69-49BB-B2AE-AF29074F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1BBA0-185C-4ABE-BA07-57A93937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0BD3A-ADE6-46AA-AEF8-1909FF1F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BC96E-7711-40C7-B358-D4520F755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55EDF-85E5-41EA-8E78-76A78E7B7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CC80B-18BB-4941-A99D-CCD050A58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1DD11-7342-4EF8-9F04-F1C675876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CCA20-2FB9-40E6-8369-F7BF1EB90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4D6BB-F43C-449D-8319-B75F41FC6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BB25D-AA42-4DFC-80E0-51AF992B8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09C78-DA3F-4D1C-BB50-003E92639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7FC3-2D65-4802-81C0-A3207F5C4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D6AEB-1454-4B15-BA2F-21E1E097F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29BA1-5A37-4F60-8A85-4AA9A22C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E0174-3FDA-4688-B9B0-474A4CA3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43736-FC1F-4E7C-AB18-78CA4C79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A0300-9263-4D1C-AEF3-DD7BFB5D2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3102B-AB97-4174-A970-6018EB42B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281ED-9CF9-49F3-BDF3-AF34BD37C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C5165-C981-4E16-94E2-FFC8B6897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4FD24-17C5-4B8D-B47A-83940F3EE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74D7D-4954-446F-A1B8-86EBECBA4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3B50-C200-4D8D-AD17-8EE28D745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63A5D-1425-4780-88DE-AB25B9B08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74938-673B-495A-9BC8-5E4143E42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AF65E-FE14-4B86-BFD3-D6D74CBF8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37A50-6022-4839-9154-5EBF1F60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39285-B993-452D-B53D-2C63565F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C94E1-27FB-4098-8702-56A37A0A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C68E2-701B-4B89-A79B-C23F72BC7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C9970-FF49-4E93-A58F-E218D5C7E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1FD5F-80B4-4073-88B1-FCEE1B275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CC96A-030F-494A-B1FC-10592D291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25DA-47CC-4709-9C8E-70886A2F8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1AAFA-5DFF-4FCE-88D8-CEB9792BD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D13A4-D522-4F4E-9B7F-335C0EA34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D4754-A5D7-4B05-974A-76F39D85E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BF04A-587F-4386-940E-1FCFDECF7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FA2A5-3D51-447F-B787-2F43C3C3A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E0CC7-9903-468C-9685-B5A54F82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54010-3AC5-4961-930D-36B193C9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F78A3-4F30-4236-A32B-591E91EE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3BB91-3937-45C9-9A77-42C324A42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5D34B-F85D-412D-BAF5-E072F42DB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33EF-F266-46CB-AB18-B1160B164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0B55C-4C0F-4885-8281-6C304F5E8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32DD6-E5D5-4DDD-B64C-94798DC7C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220E40-BB47-40F8-8561-EF6276F2E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6E6B2-239D-4E2D-89E7-992089FBA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A4914-3475-495F-978B-48A9C108E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0477C-9CF2-439B-9363-E31BEA97C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1C0C7-7E2C-4AC8-A624-4D4987A94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0D4EE-5EB2-4CF8-AEED-B15946D5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F3C3F-8A73-4037-AEC8-B1AA35C1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E83D1-2C8B-4537-9CDE-A1899752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14CF-C497-4818-A878-D8E369FD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96663-0F13-4F77-9829-7DD3EB7DF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68D90-E540-44F1-A5E2-B20F5BE5C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2E78D-695D-469E-8EE6-BED304AE8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AEF24-49B8-4DE8-B618-517F647C7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3354A4-D5C0-45CD-8AEE-97CD2196B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77311-088A-4E76-82DA-139B19255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2B14A-95D8-492A-B930-05775432C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5A4A6-B5DE-405F-B201-47A50D7EB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06330F-929E-4A22-BB59-64C5EF2CF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370AC-52FF-4B24-8778-1ED719CC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69D3-48BE-42F8-B226-159A4F19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ACE66-BF7B-48B8-88B4-9D78F2B2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665AA-2C70-43F4-BD69-E094C83A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667DE1-DFF9-49A5-90DA-5807AAF72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E5122-D0B7-49D2-A508-E02896FC8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20EB2-3993-49C4-A25D-D6F3FDC5C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900B77-2196-4462-A1F8-55C3BF60B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8BC35-AEE9-47DA-94FF-88DB666FC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83EC4D-0D25-4DBB-AAFF-9507FC248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E8E395-9D85-4F37-BB47-06728FEA4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7BE4B1-FE62-4814-9128-18C083513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9D32-E41E-47E6-9D0F-9E29C665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15266F-A3D3-403D-8BB9-20F388C31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37F56A-97A1-4338-ABC3-E33D8FA6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B3B852-3CD2-46FB-B98A-DB1B597C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FD400B-735A-4219-A501-D7EDEA75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B86BC3-F2B9-42AC-8975-E09D551F4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889AA4-F4BA-4F2E-9729-A9827CE78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69A0AB-7DAF-4C73-89D0-74C5693FC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7961E-64A0-446B-972F-334BA09D4EC6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F650D-7091-487C-A472-64DD53B2FC50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A2089-7F99-40F6-A620-2238F7715534}" type="slidenum">
              <a:rPr b="0" lang="en-GB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F842D-8DD3-444D-9ED7-D0A7BCB9359D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768F0-F649-4EC3-847C-1908E0CF2139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04A68-8D46-4C2A-BC67-5050E4CCC0BB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C6F71-4DBE-435E-AAD4-6FBAD58A164B}" type="slidenum">
              <a:rPr b="0" lang="en-GB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7488F-085A-4E60-9659-F50268C54F92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ookman Old Style"/>
              </a:rPr>
              <a:t>King Billy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64653"/>
                </a:solidFill>
                <a:latin typeface="Bookman Old Style"/>
              </a:rPr>
              <a:t>Edwin Morga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4" name="Picture 3" descr="BillyFullerlton1935.gif"/>
          <p:cNvPicPr/>
          <p:nvPr/>
        </p:nvPicPr>
        <p:blipFill>
          <a:blip r:embed="rId1"/>
          <a:stretch/>
        </p:blipFill>
        <p:spPr>
          <a:xfrm>
            <a:off x="1714680" y="571680"/>
            <a:ext cx="3143160" cy="47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Them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he importance of understanding the pas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hat poverty can breed violenc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he danger of ignorance about the beliefs of others (sectarianis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Hypocrisy of violence in defence of supposedly Christian beliefs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2560" y="152280"/>
            <a:ext cx="85438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464653"/>
                </a:solidFill>
                <a:latin typeface="Bookman Old Style"/>
              </a:rPr>
              <a:t>‘</a:t>
            </a:r>
            <a:r>
              <a:rPr b="0" lang="en-GB" sz="2900" spc="-1" strike="noStrike">
                <a:solidFill>
                  <a:srgbClr val="464653"/>
                </a:solidFill>
                <a:latin typeface="Bookman Old Style"/>
              </a:rPr>
              <a:t>...Wind rose / flaring the hissing leaves, the branches / swung heavy, across the lamps.’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ontribution to scene and mood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Weather worsening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‘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flaring’ – spreading the leaves everywher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‘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hissing’ – onomatopoeia / personification – sinister connotations – hissing usually threatening sound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Heavy branches – makes them sound imposing / intimidating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Light being obscured by the trees moving in the wind – spooky / gothic atmosphere – stormy graveyard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Enjambment – ‘the branches’ – effect of branches swaying in the wind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464653"/>
                </a:solidFill>
                <a:latin typeface="Bookman Old Style"/>
              </a:rPr>
              <a:t>‘</a:t>
            </a:r>
            <a:r>
              <a:rPr b="0" lang="en-GB" sz="2900" spc="-1" strike="noStrike">
                <a:solidFill>
                  <a:srgbClr val="464653"/>
                </a:solidFill>
                <a:latin typeface="Bookman Old Style"/>
              </a:rPr>
              <a:t>Gravestones huddled in drizzling shadow’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00040" y="214308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ontribution to scene and mood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‘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gravestones huddled’ – suggests weather so bad, they need to huddle together for shelter (personification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‘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drizzling shadow’ – refers to rain and darkness – adds to spooky / sinister atmosphere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464653"/>
                </a:solidFill>
                <a:latin typeface="Bookman Old Style"/>
              </a:rPr>
              <a:t>How structure of first 4 lines in second verse adds solemn dignity to the scene: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A long sentence, which lists the various descriptive details of the funeral procession. Creates a slow rhythm which reflects the a slow respectful funeral march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Use of colon in line 4 to introduce elaboration – King Billy of Brigton has been introduced and now we are going to find out more about him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464653"/>
                </a:solidFill>
                <a:latin typeface="Bookman Old Style"/>
              </a:rPr>
              <a:t>How the poet conveys the poverty and violence of King Billy’s background. 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Gill Sans MT"/>
              </a:rPr>
              <a:t>Pover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brooding days of empty bellies’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billiard smoke and sour pint’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bad times / of idleness and boredom’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Gill Sans MT"/>
              </a:rPr>
              <a:t>Violen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boots and fists’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sherrickings’ – public argument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the scuffle, the flash, the shout / bloody crumpling...’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bricks’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ambush’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razors’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Structure of lines 19-24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28760" y="2499840"/>
            <a:ext cx="82296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Long list of endless violenc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Quick listing – speed arguments turned into violence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Repetition – it was ongoing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ontrast – Billy Boys v. Conks – power shift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464653"/>
                </a:solidFill>
                <a:latin typeface="Bookman Old Style"/>
              </a:rPr>
              <a:t>‘</a:t>
            </a:r>
            <a:r>
              <a:rPr b="0" lang="en-GB" sz="2900" spc="-1" strike="noStrike">
                <a:solidFill>
                  <a:srgbClr val="464653"/>
                </a:solidFill>
                <a:latin typeface="Bookman Old Style"/>
              </a:rPr>
              <a:t>Sillitoe scuffs the razors down the stank’.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28760" y="171468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An effective metaphor – comparing Chief Constable’s success in breaking down the power of the razor gangs to him kicking their razors down drain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Suggests he was personally responsible for eradicating the violenc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mage of razors being washed down drain – into sewers where they belong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‘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stank’ – Glasgow word – sense of place (as if this is a Glaswegian telling us what he did)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Social comment in lines 28-29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Lines imply that the violence was born out of the poverty of the time. People had nothing better to do with themselves (‘idleness and boredom’)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How sympathy is aroused for King Billy.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Billy Fullerton was born into poverty and a bad time, and this did not hold him back – he offered hope to some disaffected people in Glasgow at the tim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However,  he was soon forgotten by the people as their circumstances improved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He ended up forgotten and alone – he used to be a legendary figure (contrast of his lonely death / busy funeral attended by hundreds of mourners)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464653"/>
                </a:solidFill>
                <a:latin typeface="Bookman Old Style"/>
              </a:rPr>
              <a:t>‘</a:t>
            </a:r>
            <a:r>
              <a:rPr b="0" lang="en-GB" sz="2900" spc="-1" strike="noStrike">
                <a:solidFill>
                  <a:srgbClr val="464653"/>
                </a:solidFill>
                <a:latin typeface="Bookman Old Style"/>
              </a:rPr>
              <a:t>...the flutes / threw ‘Onward Christian Soldiers’ to the winds / from unironic lips...’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t is ironic that a Christian song is playing at the funeral of someone who was very un-Christian in his actions (a violent murderer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However, much of the violence was born out of religious differences – Catholic v. Protestan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he mourners do not realise the irony – they are unaware of the discrepancy in what they are doing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Group Task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Who was Billy Fullerton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What is sectarianism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What is a “Billy Boy”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n your groups answer the questions and find out as much as you can about Billy Fullerto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464653"/>
                </a:solidFill>
                <a:latin typeface="Bookman Old Style"/>
              </a:rPr>
              <a:t>Language used to give sense of time and place: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ime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o Our Leader of Thirty Years Ag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Bad tim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References to the gangs / poverty / events of the tim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Plac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References to Riddrie / Brigton / Bridgeton Cros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Gangs / characters   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Descriptive setting at beginning.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Today’s Lesson</a:t>
            </a: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Gill Sans MT"/>
              </a:rPr>
              <a:t>Complete annotation of the poem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Gill Sans MT"/>
              </a:rPr>
              <a:t>Work on techniques 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Gill Sans MT"/>
              </a:rPr>
              <a:t>Look at the essay question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Essay Question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7. Choose a poem which deals with an important issue such as war, crime, poverty or </a:t>
            </a:r>
            <a:r>
              <a:rPr b="1" lang="en-GB" sz="2600" spc="-1" strike="noStrike">
                <a:solidFill>
                  <a:srgbClr val="000000"/>
                </a:solidFill>
                <a:latin typeface="Gill Sans MT"/>
              </a:rPr>
              <a:t>racism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xplain how the poet deepens your understanding of the issue by the choice of content and the skilful use of poetic technique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9" name="Picture 3" descr="C:\Documents and Settings\barnardz-s\Local Settings\Temporary Internet Files\Content.IE5\PZIQ5YI3\MC900423173[1].wmf"/>
          <p:cNvPicPr/>
          <p:nvPr/>
        </p:nvPicPr>
        <p:blipFill>
          <a:blip r:embed="rId1"/>
          <a:stretch/>
        </p:blipFill>
        <p:spPr>
          <a:xfrm>
            <a:off x="6516720" y="4365720"/>
            <a:ext cx="1827360" cy="18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What is in a title?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Gill Sans MT"/>
              </a:rPr>
              <a:t>King Billy </a:t>
            </a:r>
            <a:endParaRPr b="0" lang="en-US" sz="9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Form and Structure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1219320"/>
            <a:ext cx="822960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The poem is in 4 stanzas and 29 lines of blank ver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The narrative style of the poem uses third person narration. The persona is a third person omniscient narrator (they have a god-like overview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The poem’s tone is sombre and serious, and also reflective of the past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The enjambment used slows the rate of the poem and emphasises its reflective tone.  The only use of caesura at the end of “dying alone in Bridgeton in a box bed.” is used to highlight Billy Fullarton’s literal death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Structur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he poem can be structured as follows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Stanza 1 – The graveyard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Stanza 2 – The flashback to the old Bridget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Stanza 3 – The memories of Billy/his funeral and legac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Stanza 4 – The final reflection – the twist.  Not damning Billy Fullarton as expected, but the lack of understanding between people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Pictures of Glasgow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64" name="Content Placeholder 3" descr="Men_Should_Weep-1-200-200-85-crop.jpg"/>
          <p:cNvPicPr/>
          <p:nvPr/>
        </p:nvPicPr>
        <p:blipFill>
          <a:blip r:embed="rId1"/>
          <a:stretch/>
        </p:blipFill>
        <p:spPr>
          <a:xfrm>
            <a:off x="6084720" y="1413000"/>
            <a:ext cx="2679840" cy="26812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3" descr="442px-Umbrellabridgton.jpg"/>
          <p:cNvPicPr/>
          <p:nvPr/>
        </p:nvPicPr>
        <p:blipFill>
          <a:blip r:embed="rId2"/>
          <a:stretch/>
        </p:blipFill>
        <p:spPr>
          <a:xfrm>
            <a:off x="0" y="1268280"/>
            <a:ext cx="2689200" cy="36450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4" descr="800px-Orange_Parade_in_Larkhall,_Scotland.jpg"/>
          <p:cNvPicPr/>
          <p:nvPr/>
        </p:nvPicPr>
        <p:blipFill>
          <a:blip r:embed="rId3"/>
          <a:stretch/>
        </p:blipFill>
        <p:spPr>
          <a:xfrm>
            <a:off x="2916360" y="4005360"/>
            <a:ext cx="3527280" cy="23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Billy Fullert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Led a gang the “Billy Boys” famous for violence in Bridgeton, East End of Glasgow in the 1930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Associated with Scottish Protestantism, Unionism and sectarianis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Despite his legacy as a folk hero to some, he died alone in Bridgeton where everyday his gang would sing the national anthem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Around 1000 people followed his funeral procession in Glasgow on its journey to Riddrie cemetery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Today’s Less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ontinued notes on BF and structur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Questions on the poem to be completed and answered as a clas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Begin annotation of the poem in pairs – using glossarie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‘</a:t>
            </a: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Grey over Riddrie the clouds piled up / dragged their rain through the cemetery trees.’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2071800"/>
            <a:ext cx="8229600" cy="40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ontribution to scene and mood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Setting introduced – ‘Riddrie’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Uses personification – the clouds ‘dragged’ their rain. Suggests they’re heavy with rain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Suggests dull, dreary atmosphere – lots of grey clouds and penetrating rain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‘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emetery’ – idea of death / mourning introduced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16:54:34Z</dcterms:created>
  <dc:creator>Portree High School</dc:creator>
  <dc:description/>
  <dc:language>en-US</dc:language>
  <cp:lastModifiedBy>Your User Name</cp:lastModifiedBy>
  <dcterms:modified xsi:type="dcterms:W3CDTF">2011-11-02T14:27:10Z</dcterms:modified>
  <cp:revision>11</cp:revision>
  <dc:subject/>
  <dc:title>King Billy</dc:title>
</cp:coreProperties>
</file>